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020A-6373-4373-8A6B-C1948E748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F0E-CDF0-425B-A0F9-9A5DE137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690-3B40-4772-81E0-5B9D0A19D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the first image in and then bring in the second highlighting the fact that using OR bring up more search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6346-4919-4C48-B9A0-45A1B06C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just the left hand side should be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7AFE-6D13-406E-B559-91BCDC82D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C0A-FB49-4EFA-9588-D614D5AB3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2B57-E54C-496A-8E52-B5A46122C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66F-3263-4C48-BA33-C8E93183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DFDD-73D6-44AA-B309-E1DCAFD74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E2D6-8D84-4EDD-8DA5-4B2B3CCB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6A8A-A06C-4878-AE37-6930B473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B6CB-2E11-43DE-B76D-15BBF0E4F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4EF1-69B6-4DBA-97B5-E24746CD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the first image in and then bring the second image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779F-1D7C-4DA4-A223-007468104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tire image should be highligh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4B8-A42D-4BAA-A210-3E67D040D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EC6-965F-4BEF-A502-1270C5FD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FA4-83CA-4823-A63B-A38CFF03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B214-0E63-4672-94AE-C845905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AA1B-CC16-4907-BC17-38BB785C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719D-1CD5-4DEF-A844-FA7364A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63D36-CF59-46A4-9317-BBC27A2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395D9-9C3B-4721-8BBC-D65DAD7C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AE3DE-3288-4ECB-97E0-6DC6CB8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448C3-31E5-4202-BF47-F63CEB9B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A25B-95AD-44AB-BC48-EE89A498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9949-10F3-4FCB-B2DB-DE32AA1F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8F0C3-1D6A-49BE-803E-F860E566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4F2-6F54-42D8-B89A-D8BCA1CA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AD41-78F5-4532-AEBB-D4A4E46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7C967-FE78-4AF0-9C88-C730BDEB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05FD-2A8B-498E-A450-5C18C14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934D8-5A89-4C12-B461-52352E95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736B5-7531-494C-B438-63DD13B6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F06CE-88E2-45C4-850B-F03E268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872DF-63F7-46C2-8655-12F93C5F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690F9-3AD2-4D54-A4A1-58AC5C5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BD1B2-0CEB-42DE-B5E4-936D4249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E461-D513-4568-8F41-C4BD339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421-E23B-4CCA-9EA7-16084593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5E2CF-42E2-497E-BB40-5D3FEEC0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E305C-323C-4284-9C89-2CE762DE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F6E56-EF1E-4C2A-BF2D-7752105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80A49-DAA3-4426-BC8F-EC4A88EE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C6D5C-F04E-43F2-BF1B-DC939A6D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575D8-9ADC-428B-BC52-CBD228A3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CA13A-F762-4FD9-9750-ABB96A5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C4FE8-228A-4436-B644-DAADF3A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184A1-6DD1-4437-A08D-6D30454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BCC41-5601-4AFD-927A-06A44568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F35-64C2-453E-8874-95D58E16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6B4EC-DD9E-4940-8F43-88037FB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BE744-8CAE-4C63-B02A-E58F5750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7D6D3-DD5F-4739-98B9-32244951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C83E-F924-4A3E-87C4-3FD6C0F8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EA01-4235-4C9F-AD41-9EDD5918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9900-51E2-48A1-9472-C25A059C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3EBD-C67A-4B6F-BFEE-73C8077A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B8C2-6353-4796-A2B8-1AEB0562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C4FE-D683-4D89-B56B-B6B3A84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45D-FAE3-4933-84E9-80ED157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C59B-ECBC-4FFB-9E81-6985516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3AB7-A024-454A-BD99-77D4452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CFB5-94A5-4B4D-96FF-A0199AAE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3DBD-0DD6-46AF-A1C2-6F8930FA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6135-7AB6-4C15-BF22-2AA1DA7F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17E-03CF-4C01-8113-C9D8D7B9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578-9F19-4150-83BD-8582203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3BA3-39D7-4F9B-BEC8-C333CEA5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29B-D9BA-4AEB-B584-675E0ACE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379DF-5B0B-4F8A-A059-FAF5634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795F-8826-4EDA-B374-00B32578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8736-0DE5-4A1F-A754-CBA2BB6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0485-9D49-428F-9F9F-3D19C7B0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6113-E701-41D2-A054-9551BAD5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845E-045B-4BA0-ABA1-5694C54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A6F4-5E0A-4B15-958B-AC16E260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8D26-A24A-4FFC-8A29-297C016C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1B64-E0F4-43CC-B99D-7EF82F93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8335-AE03-4538-8361-6A25788A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D40-2A0E-4684-ACF0-1A3D0DE4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6813-5241-4073-9FC1-5249F371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6CBD-AF7C-4A34-B611-22C73D9B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05D1-EA16-4482-B51A-92CC82D5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5E51-2AFF-425A-BC9C-83242576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49DF-F3B5-4168-9893-DE04115D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5AA9-5C0B-4893-BF49-7A6E5E7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1892-584C-44BF-AB76-4E94F0C1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EC24-E967-4481-BDCB-A50AF2B9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A1D5-B466-4963-8384-97BEB2D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C6349-1261-407D-820D-4DDB268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24A-0DD4-4C5A-A4B6-E666AD8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ADA5-D941-4690-98D7-9B52057A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548A-4720-4F33-BC3B-9B52E0E3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013C-E5EE-49C2-B447-5CE850BD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FE64-41F9-4AC5-958D-007B083B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A1C3-6A5B-43D7-B8FC-7DC50189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780F-5260-4B93-AF60-361E3A5C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4AEC1-4B14-4386-ACD6-10F8D62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0BFF-0996-4273-B241-FF32D8A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F3BB-1CE0-4BDD-91D8-0E15A687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6F73-3952-4C1F-8F7E-CED00733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BD1-63E7-40B4-BC3A-B92C8CC4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E10BD-83B8-4838-87C9-1DA65DF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CCFA-73A8-42E8-A1E8-F4C10D5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9177-699C-44A3-848C-330008D1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8BA7-6024-4924-84C9-F11065B2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157C8-34FD-4CD7-A15B-3645FF47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6EF6C-46E8-4CB3-9AF0-1378CD6E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10C4A-0126-48B1-BAFB-0D551BF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77554-F086-4458-887C-205F374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5055-38AE-4ABC-9A7D-DCA758A1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938F0-469B-421A-9D3C-865F7B5D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239-3E37-4B1D-A11D-A0B5145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1D988-1E50-4596-A4B5-CC4EEC5E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831D-20B6-4204-90E4-55202B5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3335-C943-4935-8044-CE501B95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7528-16A6-43E4-A679-7EB6C23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4D373-A353-4D68-8F0E-03748F15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99B93-8C25-42CD-9195-805683E6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12F6F-EAE2-4516-909C-492F64EE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3A8E-3C8B-470A-85D2-02554C41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5AB8-9941-4092-8945-CF5B59A3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58EF-84C0-4E86-89B5-C474D82D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4917-7744-42BD-84F1-2A584FA6B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06F5-4F58-4A73-9836-6BAC5685E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44F1-3B53-4208-9691-FB30E386F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2B5-A3BE-42CA-834A-872957371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E49-D25E-4451-AD18-ED36283FD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1F8-57BB-4C1E-8C21-5C7DC67AE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2C1B-DF93-445C-BC3A-2CA605155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AA8A-F193-46C1-8762-BA52684696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CBB-080D-445D-89C8-AB6C6DC08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bjective:  Students will understand Boolean operators and how they function when searching for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" descr="SATACT.jpg"/>
          <p:cNvPicPr/>
          <p:nvPr/>
        </p:nvPicPr>
        <p:blipFill>
          <a:blip r:embed="rId1"/>
          <a:stretch/>
        </p:blipFill>
        <p:spPr>
          <a:xfrm>
            <a:off x="1371600" y="1224000"/>
            <a:ext cx="6400800" cy="487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" descr="SATAlone.jpg"/>
          <p:cNvPicPr/>
          <p:nvPr/>
        </p:nvPicPr>
        <p:blipFill>
          <a:blip r:embed="rId1"/>
          <a:stretch/>
        </p:blipFill>
        <p:spPr>
          <a:xfrm>
            <a:off x="152280" y="609480"/>
            <a:ext cx="4324320" cy="403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3" name="Picture 2" descr="ORSATACT.jpg"/>
          <p:cNvPicPr/>
          <p:nvPr/>
        </p:nvPicPr>
        <p:blipFill>
          <a:blip r:embed="rId2"/>
          <a:stretch/>
        </p:blipFill>
        <p:spPr>
          <a:xfrm>
            <a:off x="4038480" y="2362320"/>
            <a:ext cx="4876920" cy="4057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s your search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you want to exclude a keyword from your search.  Cheating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ll find results with the word Cheating, but will exclude any results with the word 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1795320" y="2743200"/>
            <a:ext cx="5553360" cy="3171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715000" y="42051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1981080" y="4205160"/>
            <a:ext cx="17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609480" y="5934240"/>
            <a:ext cx="74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y records with the word cheating that do not include the word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found (the green area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NOTcheatingtest.jpg"/>
          <p:cNvPicPr/>
          <p:nvPr/>
        </p:nvPicPr>
        <p:blipFill>
          <a:blip r:embed="rId1"/>
          <a:stretch/>
        </p:blipFill>
        <p:spPr>
          <a:xfrm>
            <a:off x="1219320" y="914400"/>
            <a:ext cx="7010280" cy="523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9" descr=""/>
          <p:cNvPicPr/>
          <p:nvPr/>
        </p:nvPicPr>
        <p:blipFill>
          <a:blip r:embed="rId1"/>
          <a:stretch/>
        </p:blipFill>
        <p:spPr>
          <a:xfrm>
            <a:off x="4808520" y="2057400"/>
            <a:ext cx="3886200" cy="36860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86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can also combine Boolean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6765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ating AND (ACT OR S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earch would find results containing either ACT or SAT or both words (the red &amp; purple areas) AND those areas that overlap with cheating (the purple area).  So this sear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your search to include both tests and th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m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results to include just those articles that contain the word cheat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2"/>
          <p:cNvSpPr/>
          <p:nvPr/>
        </p:nvSpPr>
        <p:spPr>
          <a:xfrm>
            <a:off x="637056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4572000" y="441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4"/>
          <p:cNvSpPr/>
          <p:nvPr/>
        </p:nvSpPr>
        <p:spPr>
          <a:xfrm>
            <a:off x="7620120" y="44276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oolean operators are an effective tool when searching article databases, library catalogs, and search engin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286000" y="3352680"/>
            <a:ext cx="5067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rrows you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roadens you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rrows your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3"/>
          <p:cNvSpPr/>
          <p:nvPr/>
        </p:nvSpPr>
        <p:spPr>
          <a:xfrm flipH="1">
            <a:off x="319968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log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logic is named for            mathematician  George Boole who         defined the system of logical operation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lean operators are often used when searching article databases, library catalogs, and search engines.  The operators show a relationship between keywords in a sea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tretch/>
        </p:blipFill>
        <p:spPr>
          <a:xfrm>
            <a:off x="6934320" y="762120"/>
            <a:ext cx="1550880" cy="152064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"/>
          <p:cNvSpPr/>
          <p:nvPr/>
        </p:nvSpPr>
        <p:spPr>
          <a:xfrm>
            <a:off x="6958080" y="2362320"/>
            <a:ext cx="1676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 taken from http://www.encyclopedia.com/topic/George_Boole.asp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hree Boolean operators ar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380880" y="42670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olean operators are used to expand or limit the number of results in a 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agrams visually explain how Boolean operators 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52280" y="57913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oolean operators to connect and search for the keywords found in your resear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1"/>
          <a:stretch/>
        </p:blipFill>
        <p:spPr>
          <a:xfrm>
            <a:off x="1981080" y="1130400"/>
            <a:ext cx="508176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AndSIRS.jpg"/>
          <p:cNvPicPr/>
          <p:nvPr/>
        </p:nvPicPr>
        <p:blipFill>
          <a:blip r:embed="rId1"/>
          <a:stretch/>
        </p:blipFill>
        <p:spPr>
          <a:xfrm>
            <a:off x="914400" y="1905120"/>
            <a:ext cx="7262640" cy="451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0200" y="7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example,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IRS Knowledge Sourc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s them to perform advanced search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762120" y="52236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vanced Sear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uses Boolean op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googleBoolean.jpg"/>
          <p:cNvPicPr/>
          <p:nvPr/>
        </p:nvPicPr>
        <p:blipFill>
          <a:blip r:embed="rId1"/>
          <a:stretch/>
        </p:blipFill>
        <p:spPr>
          <a:xfrm>
            <a:off x="762120" y="1600200"/>
            <a:ext cx="73818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narrows your search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hen you want your results to include all terms 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4"/>
          <p:cNvSpPr/>
          <p:nvPr/>
        </p:nvSpPr>
        <p:spPr>
          <a:xfrm>
            <a:off x="1400760" y="6033960"/>
            <a:ext cx="70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records with both terms will be found (the purple area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8" descr=""/>
          <p:cNvPicPr/>
          <p:nvPr/>
        </p:nvPicPr>
        <p:blipFill>
          <a:blip r:embed="rId1"/>
          <a:stretch/>
        </p:blipFill>
        <p:spPr>
          <a:xfrm>
            <a:off x="1608120" y="2514600"/>
            <a:ext cx="6000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" descr="cheatingSIRS.jpg"/>
          <p:cNvPicPr/>
          <p:nvPr/>
        </p:nvPicPr>
        <p:blipFill>
          <a:blip r:embed="rId1"/>
          <a:stretch/>
        </p:blipFill>
        <p:spPr>
          <a:xfrm>
            <a:off x="115920" y="685800"/>
            <a:ext cx="6404040" cy="356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6" name="Picture 2" descr="cheatingSAT.jpg"/>
          <p:cNvPicPr/>
          <p:nvPr/>
        </p:nvPicPr>
        <p:blipFill>
          <a:blip r:embed="rId2"/>
          <a:stretch/>
        </p:blipFill>
        <p:spPr>
          <a:xfrm>
            <a:off x="2362320" y="2666880"/>
            <a:ext cx="631656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adens your search.  Us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searching synonyms and closely related keywords. 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find results with one term or the other or both (the entire green are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795320" y="2971800"/>
            <a:ext cx="5553360" cy="31910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3"/>
          <p:cNvSpPr/>
          <p:nvPr/>
        </p:nvSpPr>
        <p:spPr>
          <a:xfrm>
            <a:off x="2286000" y="4243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638680" y="4199040"/>
            <a:ext cx="8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05:52Z</dcterms:created>
  <dc:creator>Operator</dc:creator>
  <dc:description/>
  <dc:language>en-US</dc:language>
  <cp:lastModifiedBy>Laurel Harris</cp:lastModifiedBy>
  <dcterms:modified xsi:type="dcterms:W3CDTF">2013-01-28T20:45:52Z</dcterms:modified>
  <cp:revision>102</cp:revision>
  <dc:subject/>
  <dc:title>Objective:</dc:title>
</cp:coreProperties>
</file>